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C02-1603-429E-B9F7-71484769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6E2-79EC-4B40-BE40-EF92CA81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71E-BDEB-4874-81F4-6F90666A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C1E-2248-4C97-91B6-A4AEDD02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56B-111E-4D1F-8A73-FE10F7C9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3F1-0A15-4FE3-A00E-DE13337F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044-ACD6-46F3-B310-474CE6B2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1B0-0518-4A07-B910-02282AD7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505-B18A-4C52-AB6D-BC794473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344-DB3C-4CCC-9FCB-EF2F62F3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FDC-E87F-4A94-A535-8D729E3E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E14-F7B1-4289-BBFD-A6D306F3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B4D6-03A3-4A27-A617-78D00AC89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et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yce Si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l R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 Whe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3520" y="380880"/>
          <a:ext cx="8305560" cy="587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3055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ing of pla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e Pla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um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et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lanet has to have .5 the mass of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lanet has to have a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sity of a planet has to be at least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lanet has to have gravity at equator of at least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ake planet does not meet thes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0880" y="304920"/>
          <a:ext cx="8305920" cy="624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2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33520" y="304920"/>
          <a:ext cx="8381880" cy="62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8381880" cy="62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33520" y="228600"/>
          <a:ext cx="8115120" cy="610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811512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52280" y="228600"/>
          <a:ext cx="8458200" cy="63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5820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0880" y="304920"/>
          <a:ext cx="8305920" cy="62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228600"/>
          <a:ext cx="8534520" cy="64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534520" cy="64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80880" y="380880"/>
          <a:ext cx="8458200" cy="598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4582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6:31:55Z</dcterms:created>
  <dc:creator>mchamorro</dc:creator>
  <dc:description/>
  <dc:language>en-US</dc:language>
  <cp:lastModifiedBy>ASD</cp:lastModifiedBy>
  <dcterms:modified xsi:type="dcterms:W3CDTF">2011-02-15T16:20:45Z</dcterms:modified>
  <cp:revision>5</cp:revision>
  <dc:subject/>
  <dc:title>Slide 1</dc:title>
</cp:coreProperties>
</file>